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ACAC-FA9D-4E25-A4C2-6456C15C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D426-4DC3-4696-870F-03346C8A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91CE-50C7-4238-AAF0-0D7AB915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CD20-907D-4347-A9D2-A35776EC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6BF2-5E22-4E51-BFD1-96C417A4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F49A-27F3-4D9F-A6F3-A8E38421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0624-A153-44D9-9498-B74CB214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39F0-2C80-4228-BE49-F6A144D2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A4A1-089E-4616-BBD7-C3D50B3A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E291-4D5B-4FFC-977A-5317BD94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51A5-31BF-455C-B7B5-A2739704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6E0E-B0F4-459B-90A7-43049F75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1857-0AFF-44E7-A87D-7AB49EA476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30640" y="1371600"/>
            <a:ext cx="2819160" cy="19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0A200" descr=""/>
          <p:cNvPicPr/>
          <p:nvPr/>
        </p:nvPicPr>
        <p:blipFill>
          <a:blip r:embed="rId1"/>
          <a:stretch/>
        </p:blipFill>
        <p:spPr>
          <a:xfrm>
            <a:off x="3687840" y="1695600"/>
            <a:ext cx="1904760" cy="1333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49200"/>
            <a:ext cx="9144000" cy="64260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Times New Roman"/>
              </a:rPr>
              <a:t>the OAI: overview and historical contex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160" y="6248520"/>
            <a:ext cx="9067680" cy="45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OAI Open Me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Washington DC – January 23</a:t>
            </a:r>
            <a:r>
              <a:rPr b="0" lang="nl-BE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038480"/>
            <a:ext cx="914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bert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de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mpel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&amp; Carl Lago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Cornel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University </a:t>
            </a: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Computer Sc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interest from other communi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52280" y="1752480"/>
            <a:ext cx="8915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Digital Library Federation mee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ccccff"/>
                </a:solidFill>
                <a:latin typeface="Times New Roman"/>
              </a:rPr>
              <a:t>~ 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research library community has many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cccc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for which they</a:t>
            </a:r>
            <a:r>
              <a:rPr b="0" lang="nl-BE" sz="3200" spc="-1" strike="noStrike">
                <a:solidFill>
                  <a:srgbClr val="ccccff"/>
                </a:solidFill>
                <a:latin typeface="Times New Roman"/>
              </a:rPr>
              <a:t> would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 like to ‘expose’ meta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OAI San Antonio meeting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BE" sz="3200" spc="-1" strike="noStrike">
                <a:solidFill>
                  <a:srgbClr val="ccccff"/>
                </a:solidFill>
                <a:latin typeface="Times New Roman"/>
              </a:rPr>
              <a:t>~ interest from librarians, publishers, others,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resulting actions: organization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52280" y="990720"/>
            <a:ext cx="8991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establish organizational stability for the OA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institutional backing from CNI &amp; DL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steering committee: policy guid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technical committee: technical specif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executive group: day to day coord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workshops: public dissemination, feedb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resulting actions: technic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52280" y="990720"/>
            <a:ext cx="899172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[09/2000]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revise specifications to allow adoption beyond preprints: technical committ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[09/2000-01/2001]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compile new specifications: editing by Carl and Herber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[11/2000-01/2001]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alpha-test specifications: oai-alpha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[01/2001]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discontinue the Santa Fe Conv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[01/2001]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release version 1.0 of the OAI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core concepts in OAI 1.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52280" y="685800"/>
            <a:ext cx="891540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low-barrier interoper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data-provider &amp; service-provider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metadata harvesting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shared metadata format and parallel, community-specific metadata form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acceptable 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flexi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441400" y="213372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OAI 1.0 protoc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80920" y="472428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Dublin C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54000" y="259092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HTTP b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74440" y="5410080"/>
            <a:ext cx="29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Community specif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5426640" y="3033720"/>
            <a:ext cx="3565080" cy="1015920"/>
            <a:chOff x="5426640" y="3033720"/>
            <a:chExt cx="3565080" cy="1015920"/>
          </a:xfrm>
        </p:grpSpPr>
        <p:sp>
          <p:nvSpPr>
            <p:cNvPr id="309" name=""/>
            <p:cNvSpPr/>
            <p:nvPr/>
          </p:nvSpPr>
          <p:spPr>
            <a:xfrm>
              <a:off x="5426640" y="3033720"/>
              <a:ext cx="96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b2b2b2"/>
                  </a:solidFill>
                  <a:latin typeface="Comic Sans MS"/>
                </a:rPr>
                <a:t>Rep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00800" y="3033720"/>
              <a:ext cx="25909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b2b2b2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b2b2b2"/>
                  </a:solidFill>
                  <a:latin typeface="Comic Sans MS"/>
                </a:rPr>
                <a:t> </a:t>
              </a:r>
              <a:r>
                <a:rPr b="0" lang="nl-BE" sz="2400" spc="-1" strike="noStrike">
                  <a:solidFill>
                    <a:srgbClr val="b2b2b2"/>
                  </a:solidFill>
                  <a:latin typeface="Comic Sans MS"/>
                </a:rPr>
                <a:t>XML Schema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b2b2b2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b2b2b2"/>
                  </a:solidFill>
                  <a:latin typeface="Comic Sans MS"/>
                </a:rPr>
                <a:t> </a:t>
              </a:r>
              <a:r>
                <a:rPr b="0" lang="nl-BE" sz="2400" spc="-1" strike="noStrike">
                  <a:solidFill>
                    <a:srgbClr val="b2b2b2"/>
                  </a:solidFill>
                  <a:latin typeface="Comic Sans MS"/>
                </a:rPr>
                <a:t>Self contain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low-barrier interop umbrel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136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52280" y="3114720"/>
            <a:ext cx="1981440" cy="1447560"/>
            <a:chOff x="152280" y="3114720"/>
            <a:chExt cx="1981440" cy="1447560"/>
          </a:xfrm>
        </p:grpSpPr>
        <p:sp>
          <p:nvSpPr>
            <p:cNvPr id="315" name=""/>
            <p:cNvSpPr/>
            <p:nvPr/>
          </p:nvSpPr>
          <p:spPr>
            <a:xfrm>
              <a:off x="152280" y="3114720"/>
              <a:ext cx="1981440" cy="144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380880" y="3476520"/>
              <a:ext cx="1434960" cy="856800"/>
              <a:chOff x="380880" y="3476520"/>
              <a:chExt cx="1434960" cy="85680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1098360" y="3476520"/>
                <a:ext cx="495000" cy="355680"/>
                <a:chOff x="1098360" y="3476520"/>
                <a:chExt cx="495000" cy="355680"/>
              </a:xfrm>
            </p:grpSpPr>
            <p:sp>
              <p:nvSpPr>
                <p:cNvPr id="318" name=""/>
                <p:cNvSpPr/>
                <p:nvPr/>
              </p:nvSpPr>
              <p:spPr>
                <a:xfrm flipH="1">
                  <a:off x="1224720" y="3666960"/>
                  <a:ext cx="241560" cy="139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>
                  <a:off x="1098000" y="3743280"/>
                  <a:ext cx="495000" cy="889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0" name=""/>
                <p:cNvGrpSpPr/>
                <p:nvPr/>
              </p:nvGrpSpPr>
              <p:grpSpPr>
                <a:xfrm>
                  <a:off x="1186920" y="3476520"/>
                  <a:ext cx="317520" cy="241200"/>
                  <a:chOff x="1186920" y="3476520"/>
                  <a:chExt cx="317520" cy="24120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 flipH="1">
                    <a:off x="1186920" y="3476520"/>
                    <a:ext cx="317520" cy="2412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>
                    <a:off x="1212120" y="3502080"/>
                    <a:ext cx="266760" cy="20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3" name=""/>
                <p:cNvSpPr/>
                <p:nvPr/>
              </p:nvSpPr>
              <p:spPr>
                <a:xfrm>
                  <a:off x="1149480" y="3781440"/>
                  <a:ext cx="406440" cy="0"/>
                </a:xfrm>
                <a:prstGeom prst="line">
                  <a:avLst/>
                </a:prstGeom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149480" y="3806640"/>
                  <a:ext cx="406440" cy="0"/>
                </a:xfrm>
                <a:prstGeom prst="line">
                  <a:avLst/>
                </a:prstGeom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5" name=""/>
              <p:cNvSpPr/>
              <p:nvPr/>
            </p:nvSpPr>
            <p:spPr>
              <a:xfrm>
                <a:off x="901440" y="3902040"/>
                <a:ext cx="91440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1066320" y="3914640"/>
                <a:ext cx="50760" cy="38124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1599840" y="3901680"/>
                <a:ext cx="50760" cy="43164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500760" y="3521160"/>
                <a:ext cx="101880" cy="101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87000" y="3654360"/>
                <a:ext cx="0" cy="59688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80880" y="4029120"/>
                <a:ext cx="304920" cy="1260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92280" y="4048200"/>
                <a:ext cx="50760" cy="22860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55400" y="3616200"/>
                <a:ext cx="102960" cy="344520"/>
              </a:xfrm>
              <a:custGeom>
                <a:avLst/>
                <a:gdLst/>
                <a:ahLst/>
                <a:rect l="l" t="t" r="r" b="b"/>
                <a:pathLst>
                  <a:path w="65" h="217">
                    <a:moveTo>
                      <a:pt x="0" y="0"/>
                    </a:moveTo>
                    <a:lnTo>
                      <a:pt x="64" y="104"/>
                    </a:lnTo>
                    <a:lnTo>
                      <a:pt x="64" y="216"/>
                    </a:lnTo>
                  </a:path>
                </a:pathLst>
              </a:custGeom>
              <a:noFill/>
              <a:ln cap="rnd"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44240" y="3971880"/>
                <a:ext cx="31752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48800" y="3997440"/>
                <a:ext cx="76320" cy="29196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799920" y="4251240"/>
                <a:ext cx="101520" cy="3816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>
                <a:off x="480240" y="3743280"/>
                <a:ext cx="446040" cy="90360"/>
              </a:xfrm>
              <a:custGeom>
                <a:avLst/>
                <a:gdLst/>
                <a:ahLst/>
                <a:rect l="l" t="t" r="r" b="b"/>
                <a:pathLst>
                  <a:path w="281" h="57">
                    <a:moveTo>
                      <a:pt x="280" y="0"/>
                    </a:moveTo>
                    <a:lnTo>
                      <a:pt x="144" y="5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7" name=""/>
          <p:cNvSpPr/>
          <p:nvPr/>
        </p:nvSpPr>
        <p:spPr>
          <a:xfrm>
            <a:off x="322200" y="1219320"/>
            <a:ext cx="17352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8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grpSp>
        <p:nvGrpSpPr>
          <p:cNvPr id="339" name=""/>
          <p:cNvGrpSpPr/>
          <p:nvPr/>
        </p:nvGrpSpPr>
        <p:grpSpPr>
          <a:xfrm>
            <a:off x="4876920" y="990720"/>
            <a:ext cx="2361960" cy="5714640"/>
            <a:chOff x="4876920" y="990720"/>
            <a:chExt cx="2361960" cy="5714640"/>
          </a:xfrm>
        </p:grpSpPr>
        <p:grpSp>
          <p:nvGrpSpPr>
            <p:cNvPr id="340" name=""/>
            <p:cNvGrpSpPr/>
            <p:nvPr/>
          </p:nvGrpSpPr>
          <p:grpSpPr>
            <a:xfrm>
              <a:off x="4876920" y="990720"/>
              <a:ext cx="533160" cy="1066680"/>
              <a:chOff x="4876920" y="990720"/>
              <a:chExt cx="533160" cy="1066680"/>
            </a:xfrm>
          </p:grpSpPr>
          <p:sp>
            <p:nvSpPr>
              <p:cNvPr id="341" name=""/>
              <p:cNvSpPr/>
              <p:nvPr/>
            </p:nvSpPr>
            <p:spPr>
              <a:xfrm>
                <a:off x="4876920" y="990720"/>
                <a:ext cx="53316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42" name="OA50" descr=""/>
              <p:cNvPicPr/>
              <p:nvPr/>
            </p:nvPicPr>
            <p:blipFill>
              <a:blip r:embed="rId2"/>
              <a:stretch/>
            </p:blipFill>
            <p:spPr>
              <a:xfrm>
                <a:off x="4905360" y="13572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3" name=""/>
            <p:cNvGrpSpPr/>
            <p:nvPr/>
          </p:nvGrpSpPr>
          <p:grpSpPr>
            <a:xfrm>
              <a:off x="5791320" y="2133720"/>
              <a:ext cx="533160" cy="1066680"/>
              <a:chOff x="5791320" y="2133720"/>
              <a:chExt cx="533160" cy="1066680"/>
            </a:xfrm>
          </p:grpSpPr>
          <p:sp>
            <p:nvSpPr>
              <p:cNvPr id="344" name=""/>
              <p:cNvSpPr/>
              <p:nvPr/>
            </p:nvSpPr>
            <p:spPr>
              <a:xfrm>
                <a:off x="5791320" y="2133720"/>
                <a:ext cx="53316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45" name="OA50" descr=""/>
              <p:cNvPicPr/>
              <p:nvPr/>
            </p:nvPicPr>
            <p:blipFill>
              <a:blip r:embed="rId3"/>
              <a:stretch/>
            </p:blipFill>
            <p:spPr>
              <a:xfrm>
                <a:off x="5819760" y="25002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6" name=""/>
            <p:cNvGrpSpPr/>
            <p:nvPr/>
          </p:nvGrpSpPr>
          <p:grpSpPr>
            <a:xfrm>
              <a:off x="6705720" y="3352680"/>
              <a:ext cx="533160" cy="1066680"/>
              <a:chOff x="6705720" y="3352680"/>
              <a:chExt cx="533160" cy="1066680"/>
            </a:xfrm>
          </p:grpSpPr>
          <p:sp>
            <p:nvSpPr>
              <p:cNvPr id="347" name=""/>
              <p:cNvSpPr/>
              <p:nvPr/>
            </p:nvSpPr>
            <p:spPr>
              <a:xfrm>
                <a:off x="6705720" y="3352680"/>
                <a:ext cx="53316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48" name="OA50" descr=""/>
              <p:cNvPicPr/>
              <p:nvPr/>
            </p:nvPicPr>
            <p:blipFill>
              <a:blip r:embed="rId4"/>
              <a:stretch/>
            </p:blipFill>
            <p:spPr>
              <a:xfrm>
                <a:off x="6734160" y="371916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9" name=""/>
            <p:cNvGrpSpPr/>
            <p:nvPr/>
          </p:nvGrpSpPr>
          <p:grpSpPr>
            <a:xfrm>
              <a:off x="5791320" y="4495680"/>
              <a:ext cx="533160" cy="1066680"/>
              <a:chOff x="5791320" y="4495680"/>
              <a:chExt cx="533160" cy="1066680"/>
            </a:xfrm>
          </p:grpSpPr>
          <p:sp>
            <p:nvSpPr>
              <p:cNvPr id="350" name=""/>
              <p:cNvSpPr/>
              <p:nvPr/>
            </p:nvSpPr>
            <p:spPr>
              <a:xfrm>
                <a:off x="5791320" y="4495680"/>
                <a:ext cx="53316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51" name="OA50" descr=""/>
              <p:cNvPicPr/>
              <p:nvPr/>
            </p:nvPicPr>
            <p:blipFill>
              <a:blip r:embed="rId5"/>
              <a:stretch/>
            </p:blipFill>
            <p:spPr>
              <a:xfrm>
                <a:off x="5819760" y="486216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52" name=""/>
            <p:cNvGrpSpPr/>
            <p:nvPr/>
          </p:nvGrpSpPr>
          <p:grpSpPr>
            <a:xfrm>
              <a:off x="4876920" y="5638680"/>
              <a:ext cx="533160" cy="1066680"/>
              <a:chOff x="4876920" y="5638680"/>
              <a:chExt cx="533160" cy="1066680"/>
            </a:xfrm>
          </p:grpSpPr>
          <p:sp>
            <p:nvSpPr>
              <p:cNvPr id="353" name=""/>
              <p:cNvSpPr/>
              <p:nvPr/>
            </p:nvSpPr>
            <p:spPr>
              <a:xfrm>
                <a:off x="4876920" y="5638680"/>
                <a:ext cx="53316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54" name="OA50" descr=""/>
              <p:cNvPicPr/>
              <p:nvPr/>
            </p:nvPicPr>
            <p:blipFill>
              <a:blip r:embed="rId6"/>
              <a:stretch/>
            </p:blipFill>
            <p:spPr>
              <a:xfrm>
                <a:off x="4905360" y="600516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55" name=""/>
          <p:cNvGrpSpPr/>
          <p:nvPr/>
        </p:nvGrpSpPr>
        <p:grpSpPr>
          <a:xfrm>
            <a:off x="2057400" y="990720"/>
            <a:ext cx="533160" cy="1066680"/>
            <a:chOff x="2057400" y="990720"/>
            <a:chExt cx="533160" cy="1066680"/>
          </a:xfrm>
        </p:grpSpPr>
        <p:sp>
          <p:nvSpPr>
            <p:cNvPr id="356" name=""/>
            <p:cNvSpPr/>
            <p:nvPr/>
          </p:nvSpPr>
          <p:spPr>
            <a:xfrm>
              <a:off x="2057400" y="990720"/>
              <a:ext cx="533160" cy="1066680"/>
            </a:xfrm>
            <a:prstGeom prst="rect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7" name="OA50" descr=""/>
            <p:cNvPicPr/>
            <p:nvPr/>
          </p:nvPicPr>
          <p:blipFill>
            <a:blip r:embed="rId7"/>
            <a:stretch/>
          </p:blipFill>
          <p:spPr>
            <a:xfrm>
              <a:off x="2085840" y="1357200"/>
              <a:ext cx="476280" cy="33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8" name=""/>
          <p:cNvGrpSpPr/>
          <p:nvPr/>
        </p:nvGrpSpPr>
        <p:grpSpPr>
          <a:xfrm>
            <a:off x="6324480" y="2222640"/>
            <a:ext cx="1752480" cy="901440"/>
            <a:chOff x="6324480" y="2222640"/>
            <a:chExt cx="1752480" cy="901440"/>
          </a:xfrm>
        </p:grpSpPr>
        <p:sp>
          <p:nvSpPr>
            <p:cNvPr id="359" name=""/>
            <p:cNvSpPr/>
            <p:nvPr/>
          </p:nvSpPr>
          <p:spPr>
            <a:xfrm>
              <a:off x="6324480" y="2222640"/>
              <a:ext cx="1752480" cy="90144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14120" y="2246040"/>
              <a:ext cx="154656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819520" y="1523880"/>
            <a:ext cx="3581280" cy="4648320"/>
            <a:chOff x="2819520" y="1523880"/>
            <a:chExt cx="3581280" cy="4648320"/>
          </a:xfrm>
        </p:grpSpPr>
        <p:sp>
          <p:nvSpPr>
            <p:cNvPr id="362" name=""/>
            <p:cNvSpPr/>
            <p:nvPr/>
          </p:nvSpPr>
          <p:spPr>
            <a:xfrm>
              <a:off x="3733920" y="1523880"/>
              <a:ext cx="0" cy="4648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19520" y="1523880"/>
              <a:ext cx="182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33920" y="2666880"/>
              <a:ext cx="1676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33920" y="5029200"/>
              <a:ext cx="1676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33920" y="6172200"/>
              <a:ext cx="838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733920" y="3886200"/>
              <a:ext cx="2666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7238880" y="3387600"/>
            <a:ext cx="1752480" cy="901800"/>
            <a:chOff x="7238880" y="3387600"/>
            <a:chExt cx="1752480" cy="901800"/>
          </a:xfrm>
        </p:grpSpPr>
        <p:sp>
          <p:nvSpPr>
            <p:cNvPr id="369" name=""/>
            <p:cNvSpPr/>
            <p:nvPr/>
          </p:nvSpPr>
          <p:spPr>
            <a:xfrm>
              <a:off x="7238880" y="33876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328520" y="34113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OPAC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410080" y="5715000"/>
            <a:ext cx="1752480" cy="901800"/>
            <a:chOff x="5410080" y="5715000"/>
            <a:chExt cx="1752480" cy="901800"/>
          </a:xfrm>
        </p:grpSpPr>
        <p:sp>
          <p:nvSpPr>
            <p:cNvPr id="372" name=""/>
            <p:cNvSpPr/>
            <p:nvPr/>
          </p:nvSpPr>
          <p:spPr>
            <a:xfrm>
              <a:off x="5410080" y="57150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499720" y="57387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nl-BE" sz="4000" spc="-1" strike="noStrike">
                  <a:solidFill>
                    <a:srgbClr val="ffffff"/>
                  </a:solidFill>
                  <a:latin typeface="Times New Roman"/>
                </a:rPr>
                <a:t>imag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6324480" y="2222640"/>
            <a:ext cx="1752480" cy="901440"/>
            <a:chOff x="6324480" y="2222640"/>
            <a:chExt cx="1752480" cy="901440"/>
          </a:xfrm>
        </p:grpSpPr>
        <p:sp>
          <p:nvSpPr>
            <p:cNvPr id="375" name=""/>
            <p:cNvSpPr/>
            <p:nvPr/>
          </p:nvSpPr>
          <p:spPr>
            <a:xfrm>
              <a:off x="6324480" y="2222640"/>
              <a:ext cx="1752480" cy="90144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414120" y="224604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FTX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6324480" y="4572000"/>
            <a:ext cx="1752480" cy="901800"/>
            <a:chOff x="6324480" y="4572000"/>
            <a:chExt cx="1752480" cy="901800"/>
          </a:xfrm>
        </p:grpSpPr>
        <p:sp>
          <p:nvSpPr>
            <p:cNvPr id="378" name=""/>
            <p:cNvSpPr/>
            <p:nvPr/>
          </p:nvSpPr>
          <p:spPr>
            <a:xfrm>
              <a:off x="6324480" y="45720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414120" y="45957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A&amp;I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410080" y="1079640"/>
            <a:ext cx="1752480" cy="901440"/>
            <a:chOff x="5410080" y="1079640"/>
            <a:chExt cx="1752480" cy="901440"/>
          </a:xfrm>
        </p:grpSpPr>
        <p:sp>
          <p:nvSpPr>
            <p:cNvPr id="381" name=""/>
            <p:cNvSpPr/>
            <p:nvPr/>
          </p:nvSpPr>
          <p:spPr>
            <a:xfrm>
              <a:off x="5410080" y="1079640"/>
              <a:ext cx="1752480" cy="90144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99720" y="110304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low-barrier interop umbrel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136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52280" y="3114720"/>
            <a:ext cx="1981440" cy="1447560"/>
            <a:chOff x="152280" y="3114720"/>
            <a:chExt cx="1981440" cy="1447560"/>
          </a:xfrm>
        </p:grpSpPr>
        <p:sp>
          <p:nvSpPr>
            <p:cNvPr id="387" name=""/>
            <p:cNvSpPr/>
            <p:nvPr/>
          </p:nvSpPr>
          <p:spPr>
            <a:xfrm>
              <a:off x="152280" y="3114720"/>
              <a:ext cx="1981440" cy="144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380880" y="3476520"/>
              <a:ext cx="1434960" cy="856800"/>
              <a:chOff x="380880" y="3476520"/>
              <a:chExt cx="1434960" cy="856800"/>
            </a:xfrm>
          </p:grpSpPr>
          <p:grpSp>
            <p:nvGrpSpPr>
              <p:cNvPr id="389" name=""/>
              <p:cNvGrpSpPr/>
              <p:nvPr/>
            </p:nvGrpSpPr>
            <p:grpSpPr>
              <a:xfrm>
                <a:off x="1098360" y="3476520"/>
                <a:ext cx="495000" cy="355680"/>
                <a:chOff x="1098360" y="3476520"/>
                <a:chExt cx="495000" cy="355680"/>
              </a:xfrm>
            </p:grpSpPr>
            <p:sp>
              <p:nvSpPr>
                <p:cNvPr id="390" name=""/>
                <p:cNvSpPr/>
                <p:nvPr/>
              </p:nvSpPr>
              <p:spPr>
                <a:xfrm flipH="1">
                  <a:off x="1224720" y="3666960"/>
                  <a:ext cx="241560" cy="139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H="1">
                  <a:off x="1098000" y="3743280"/>
                  <a:ext cx="495000" cy="889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2" name=""/>
                <p:cNvGrpSpPr/>
                <p:nvPr/>
              </p:nvGrpSpPr>
              <p:grpSpPr>
                <a:xfrm>
                  <a:off x="1186920" y="3476520"/>
                  <a:ext cx="317520" cy="241200"/>
                  <a:chOff x="1186920" y="3476520"/>
                  <a:chExt cx="317520" cy="24120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flipH="1">
                    <a:off x="1186920" y="3476520"/>
                    <a:ext cx="317520" cy="2412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>
                    <a:off x="1212120" y="3502080"/>
                    <a:ext cx="266760" cy="20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5" name=""/>
                <p:cNvSpPr/>
                <p:nvPr/>
              </p:nvSpPr>
              <p:spPr>
                <a:xfrm>
                  <a:off x="1149480" y="3781440"/>
                  <a:ext cx="406440" cy="0"/>
                </a:xfrm>
                <a:prstGeom prst="line">
                  <a:avLst/>
                </a:prstGeom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149480" y="3806640"/>
                  <a:ext cx="406440" cy="0"/>
                </a:xfrm>
                <a:prstGeom prst="line">
                  <a:avLst/>
                </a:prstGeom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7" name=""/>
              <p:cNvSpPr/>
              <p:nvPr/>
            </p:nvSpPr>
            <p:spPr>
              <a:xfrm>
                <a:off x="901440" y="3902040"/>
                <a:ext cx="91440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1066320" y="3914640"/>
                <a:ext cx="50760" cy="38124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flipV="1">
                <a:off x="1599840" y="3901680"/>
                <a:ext cx="50760" cy="43164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500760" y="3521160"/>
                <a:ext cx="101880" cy="101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87000" y="3654360"/>
                <a:ext cx="0" cy="59688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80880" y="4029120"/>
                <a:ext cx="304920" cy="1260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92280" y="4048200"/>
                <a:ext cx="50760" cy="22860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455400" y="3616200"/>
                <a:ext cx="102960" cy="344520"/>
              </a:xfrm>
              <a:custGeom>
                <a:avLst/>
                <a:gdLst/>
                <a:ahLst/>
                <a:rect l="l" t="t" r="r" b="b"/>
                <a:pathLst>
                  <a:path w="65" h="217">
                    <a:moveTo>
                      <a:pt x="0" y="0"/>
                    </a:moveTo>
                    <a:lnTo>
                      <a:pt x="64" y="104"/>
                    </a:lnTo>
                    <a:lnTo>
                      <a:pt x="64" y="216"/>
                    </a:lnTo>
                  </a:path>
                </a:pathLst>
              </a:custGeom>
              <a:noFill/>
              <a:ln cap="rnd"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44240" y="3971880"/>
                <a:ext cx="31752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48800" y="3997440"/>
                <a:ext cx="76320" cy="29196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799920" y="4251240"/>
                <a:ext cx="101520" cy="3816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480240" y="3743280"/>
                <a:ext cx="446040" cy="90360"/>
              </a:xfrm>
              <a:custGeom>
                <a:avLst/>
                <a:gdLst/>
                <a:ahLst/>
                <a:rect l="l" t="t" r="r" b="b"/>
                <a:pathLst>
                  <a:path w="281" h="57">
                    <a:moveTo>
                      <a:pt x="280" y="0"/>
                    </a:moveTo>
                    <a:lnTo>
                      <a:pt x="144" y="5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9" name=""/>
          <p:cNvSpPr/>
          <p:nvPr/>
        </p:nvSpPr>
        <p:spPr>
          <a:xfrm>
            <a:off x="322200" y="1219320"/>
            <a:ext cx="17352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grpSp>
        <p:nvGrpSpPr>
          <p:cNvPr id="411" name=""/>
          <p:cNvGrpSpPr/>
          <p:nvPr/>
        </p:nvGrpSpPr>
        <p:grpSpPr>
          <a:xfrm>
            <a:off x="6324480" y="2222640"/>
            <a:ext cx="1752480" cy="901440"/>
            <a:chOff x="6324480" y="2222640"/>
            <a:chExt cx="1752480" cy="901440"/>
          </a:xfrm>
        </p:grpSpPr>
        <p:sp>
          <p:nvSpPr>
            <p:cNvPr id="412" name=""/>
            <p:cNvSpPr/>
            <p:nvPr/>
          </p:nvSpPr>
          <p:spPr>
            <a:xfrm>
              <a:off x="6324480" y="2222640"/>
              <a:ext cx="1752480" cy="90144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414120" y="2246040"/>
              <a:ext cx="154656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7238880" y="3387600"/>
            <a:ext cx="1752480" cy="901800"/>
            <a:chOff x="7238880" y="3387600"/>
            <a:chExt cx="1752480" cy="901800"/>
          </a:xfrm>
        </p:grpSpPr>
        <p:sp>
          <p:nvSpPr>
            <p:cNvPr id="415" name=""/>
            <p:cNvSpPr/>
            <p:nvPr/>
          </p:nvSpPr>
          <p:spPr>
            <a:xfrm>
              <a:off x="7238880" y="33876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328520" y="34113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OPAC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410080" y="5715000"/>
            <a:ext cx="1752480" cy="901800"/>
            <a:chOff x="5410080" y="5715000"/>
            <a:chExt cx="1752480" cy="901800"/>
          </a:xfrm>
        </p:grpSpPr>
        <p:sp>
          <p:nvSpPr>
            <p:cNvPr id="418" name=""/>
            <p:cNvSpPr/>
            <p:nvPr/>
          </p:nvSpPr>
          <p:spPr>
            <a:xfrm>
              <a:off x="5410080" y="57150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99720" y="57387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nl-BE" sz="4000" spc="-1" strike="noStrike">
                  <a:solidFill>
                    <a:srgbClr val="ffffff"/>
                  </a:solidFill>
                  <a:latin typeface="Times New Roman"/>
                </a:rPr>
                <a:t>imag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324480" y="2222640"/>
            <a:ext cx="1752480" cy="901440"/>
            <a:chOff x="6324480" y="2222640"/>
            <a:chExt cx="1752480" cy="901440"/>
          </a:xfrm>
        </p:grpSpPr>
        <p:sp>
          <p:nvSpPr>
            <p:cNvPr id="421" name=""/>
            <p:cNvSpPr/>
            <p:nvPr/>
          </p:nvSpPr>
          <p:spPr>
            <a:xfrm>
              <a:off x="6324480" y="2222640"/>
              <a:ext cx="1752480" cy="90144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414120" y="224604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FTX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324480" y="4572000"/>
            <a:ext cx="1752480" cy="901800"/>
            <a:chOff x="6324480" y="4572000"/>
            <a:chExt cx="1752480" cy="901800"/>
          </a:xfrm>
        </p:grpSpPr>
        <p:sp>
          <p:nvSpPr>
            <p:cNvPr id="424" name=""/>
            <p:cNvSpPr/>
            <p:nvPr/>
          </p:nvSpPr>
          <p:spPr>
            <a:xfrm>
              <a:off x="6324480" y="45720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14120" y="45957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A&amp;I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410080" y="1079640"/>
            <a:ext cx="1752480" cy="901440"/>
            <a:chOff x="5410080" y="1079640"/>
            <a:chExt cx="1752480" cy="901440"/>
          </a:xfrm>
        </p:grpSpPr>
        <p:sp>
          <p:nvSpPr>
            <p:cNvPr id="427" name=""/>
            <p:cNvSpPr/>
            <p:nvPr/>
          </p:nvSpPr>
          <p:spPr>
            <a:xfrm>
              <a:off x="5410080" y="1079640"/>
              <a:ext cx="1752480" cy="90144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99720" y="110304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914400" y="1980720"/>
            <a:ext cx="380880" cy="914760"/>
            <a:chOff x="914400" y="1980720"/>
            <a:chExt cx="380880" cy="914760"/>
          </a:xfrm>
        </p:grpSpPr>
        <p:sp>
          <p:nvSpPr>
            <p:cNvPr id="430" name=""/>
            <p:cNvSpPr/>
            <p:nvPr/>
          </p:nvSpPr>
          <p:spPr>
            <a:xfrm flipV="1">
              <a:off x="914400" y="1980720"/>
              <a:ext cx="0" cy="838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1295280" y="2057400"/>
              <a:ext cx="0" cy="8380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2286000" y="3400560"/>
            <a:ext cx="2057040" cy="946440"/>
            <a:chOff x="2286000" y="3400560"/>
            <a:chExt cx="2057040" cy="946440"/>
          </a:xfrm>
        </p:grpSpPr>
        <p:sp>
          <p:nvSpPr>
            <p:cNvPr id="433" name=""/>
            <p:cNvSpPr/>
            <p:nvPr/>
          </p:nvSpPr>
          <p:spPr>
            <a:xfrm>
              <a:off x="3202200" y="3400560"/>
              <a:ext cx="1140840" cy="946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Courier New"/>
                </a:rPr>
                <a:t>Auth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Courier New"/>
                </a:rPr>
                <a:t>Tit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Courier New"/>
                </a:rPr>
                <a:t>Abstra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Courier New"/>
                </a:rPr>
                <a:t>Identif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2286000" y="3838680"/>
              <a:ext cx="8380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495680" y="1676520"/>
            <a:ext cx="1447920" cy="4343400"/>
            <a:chOff x="4495680" y="1676520"/>
            <a:chExt cx="1447920" cy="4343400"/>
          </a:xfrm>
        </p:grpSpPr>
        <p:sp>
          <p:nvSpPr>
            <p:cNvPr id="436" name=""/>
            <p:cNvSpPr/>
            <p:nvPr/>
          </p:nvSpPr>
          <p:spPr>
            <a:xfrm flipV="1">
              <a:off x="4495680" y="1676520"/>
              <a:ext cx="762120" cy="2133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4495680" y="2742840"/>
              <a:ext cx="1447920" cy="1066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495680" y="3809880"/>
              <a:ext cx="762120" cy="221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OAI harvesting to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136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2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676520" y="266688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485880" y="2743200"/>
            <a:ext cx="175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Datestam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Identif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541008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505680" y="487692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Rec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7619760" y="1994040"/>
            <a:ext cx="1524240" cy="4176720"/>
            <a:chOff x="7619760" y="1994040"/>
            <a:chExt cx="1524240" cy="4176720"/>
          </a:xfrm>
        </p:grpSpPr>
        <p:grpSp>
          <p:nvGrpSpPr>
            <p:cNvPr id="448" name=""/>
            <p:cNvGrpSpPr/>
            <p:nvPr/>
          </p:nvGrpSpPr>
          <p:grpSpPr>
            <a:xfrm>
              <a:off x="7619760" y="2286000"/>
              <a:ext cx="1066680" cy="3581280"/>
              <a:chOff x="7619760" y="2286000"/>
              <a:chExt cx="1066680" cy="3581280"/>
            </a:xfrm>
          </p:grpSpPr>
          <p:sp>
            <p:nvSpPr>
              <p:cNvPr id="449" name=""/>
              <p:cNvSpPr/>
              <p:nvPr/>
            </p:nvSpPr>
            <p:spPr>
              <a:xfrm rot="5400000">
                <a:off x="636228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450" name="OA50" descr=""/>
              <p:cNvPicPr/>
              <p:nvPr/>
            </p:nvPicPr>
            <p:blipFill>
              <a:blip r:embed="rId2"/>
              <a:stretch/>
            </p:blipFill>
            <p:spPr>
              <a:xfrm>
                <a:off x="79153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1" name=""/>
            <p:cNvGrpSpPr/>
            <p:nvPr/>
          </p:nvGrpSpPr>
          <p:grpSpPr>
            <a:xfrm>
              <a:off x="8686800" y="1994040"/>
              <a:ext cx="457200" cy="4176720"/>
              <a:chOff x="8686800" y="1994040"/>
              <a:chExt cx="457200" cy="4176720"/>
            </a:xfrm>
          </p:grpSpPr>
          <p:sp>
            <p:nvSpPr>
              <p:cNvPr id="452" name=""/>
              <p:cNvSpPr/>
              <p:nvPr/>
            </p:nvSpPr>
            <p:spPr>
              <a:xfrm>
                <a:off x="868680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710560" y="2103840"/>
                <a:ext cx="401400" cy="375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repos i tor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4" name=""/>
          <p:cNvGrpSpPr/>
          <p:nvPr/>
        </p:nvGrpSpPr>
        <p:grpSpPr>
          <a:xfrm>
            <a:off x="76320" y="1994040"/>
            <a:ext cx="1523520" cy="4176720"/>
            <a:chOff x="76320" y="1994040"/>
            <a:chExt cx="1523520" cy="4176720"/>
          </a:xfrm>
        </p:grpSpPr>
        <p:grpSp>
          <p:nvGrpSpPr>
            <p:cNvPr id="455" name=""/>
            <p:cNvGrpSpPr/>
            <p:nvPr/>
          </p:nvGrpSpPr>
          <p:grpSpPr>
            <a:xfrm>
              <a:off x="533160" y="2286000"/>
              <a:ext cx="1066680" cy="3581280"/>
              <a:chOff x="533160" y="2286000"/>
              <a:chExt cx="1066680" cy="3581280"/>
            </a:xfrm>
          </p:grpSpPr>
          <p:sp>
            <p:nvSpPr>
              <p:cNvPr id="456" name=""/>
              <p:cNvSpPr/>
              <p:nvPr/>
            </p:nvSpPr>
            <p:spPr>
              <a:xfrm rot="5400000">
                <a:off x="-72396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457" name="OA50" descr=""/>
              <p:cNvPicPr/>
              <p:nvPr/>
            </p:nvPicPr>
            <p:blipFill>
              <a:blip r:embed="rId3"/>
              <a:stretch/>
            </p:blipFill>
            <p:spPr>
              <a:xfrm>
                <a:off x="8287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8" name=""/>
            <p:cNvGrpSpPr/>
            <p:nvPr/>
          </p:nvGrpSpPr>
          <p:grpSpPr>
            <a:xfrm>
              <a:off x="76320" y="1994040"/>
              <a:ext cx="457200" cy="4176720"/>
              <a:chOff x="76320" y="1994040"/>
              <a:chExt cx="457200" cy="4176720"/>
            </a:xfrm>
          </p:grpSpPr>
          <p:sp>
            <p:nvSpPr>
              <p:cNvPr id="459" name=""/>
              <p:cNvSpPr/>
              <p:nvPr/>
            </p:nvSpPr>
            <p:spPr>
              <a:xfrm>
                <a:off x="7632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00080" y="2103840"/>
                <a:ext cx="401400" cy="338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harves te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1" name=""/>
          <p:cNvSpPr/>
          <p:nvPr/>
        </p:nvSpPr>
        <p:spPr>
          <a:xfrm>
            <a:off x="92880" y="922320"/>
            <a:ext cx="28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service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711480" y="9223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data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OAI harvesting to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136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6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255400" y="2257560"/>
            <a:ext cx="44812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Supporting protocol reques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Identif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ListMetadataForma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List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86000" y="4205160"/>
            <a:ext cx="45720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Harvesting protocol reques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ListRec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ListIdentif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GetRec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7619760" y="1994040"/>
            <a:ext cx="1524240" cy="4176720"/>
            <a:chOff x="7619760" y="1994040"/>
            <a:chExt cx="1524240" cy="4176720"/>
          </a:xfrm>
        </p:grpSpPr>
        <p:grpSp>
          <p:nvGrpSpPr>
            <p:cNvPr id="470" name=""/>
            <p:cNvGrpSpPr/>
            <p:nvPr/>
          </p:nvGrpSpPr>
          <p:grpSpPr>
            <a:xfrm>
              <a:off x="7619760" y="2286000"/>
              <a:ext cx="1066680" cy="3581280"/>
              <a:chOff x="7619760" y="2286000"/>
              <a:chExt cx="1066680" cy="3581280"/>
            </a:xfrm>
          </p:grpSpPr>
          <p:sp>
            <p:nvSpPr>
              <p:cNvPr id="471" name=""/>
              <p:cNvSpPr/>
              <p:nvPr/>
            </p:nvSpPr>
            <p:spPr>
              <a:xfrm rot="5400000">
                <a:off x="636228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472" name="OA50" descr=""/>
              <p:cNvPicPr/>
              <p:nvPr/>
            </p:nvPicPr>
            <p:blipFill>
              <a:blip r:embed="rId2"/>
              <a:stretch/>
            </p:blipFill>
            <p:spPr>
              <a:xfrm>
                <a:off x="79153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3" name=""/>
            <p:cNvGrpSpPr/>
            <p:nvPr/>
          </p:nvGrpSpPr>
          <p:grpSpPr>
            <a:xfrm>
              <a:off x="8686800" y="1994040"/>
              <a:ext cx="457200" cy="4176720"/>
              <a:chOff x="8686800" y="1994040"/>
              <a:chExt cx="457200" cy="4176720"/>
            </a:xfrm>
          </p:grpSpPr>
          <p:sp>
            <p:nvSpPr>
              <p:cNvPr id="474" name=""/>
              <p:cNvSpPr/>
              <p:nvPr/>
            </p:nvSpPr>
            <p:spPr>
              <a:xfrm>
                <a:off x="868680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710560" y="2103840"/>
                <a:ext cx="401400" cy="375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repos i tor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6" name=""/>
          <p:cNvGrpSpPr/>
          <p:nvPr/>
        </p:nvGrpSpPr>
        <p:grpSpPr>
          <a:xfrm>
            <a:off x="76320" y="1994040"/>
            <a:ext cx="1523520" cy="4176720"/>
            <a:chOff x="76320" y="1994040"/>
            <a:chExt cx="1523520" cy="4176720"/>
          </a:xfrm>
        </p:grpSpPr>
        <p:grpSp>
          <p:nvGrpSpPr>
            <p:cNvPr id="477" name=""/>
            <p:cNvGrpSpPr/>
            <p:nvPr/>
          </p:nvGrpSpPr>
          <p:grpSpPr>
            <a:xfrm>
              <a:off x="533160" y="2286000"/>
              <a:ext cx="1066680" cy="3581280"/>
              <a:chOff x="533160" y="2286000"/>
              <a:chExt cx="1066680" cy="3581280"/>
            </a:xfrm>
          </p:grpSpPr>
          <p:sp>
            <p:nvSpPr>
              <p:cNvPr id="478" name=""/>
              <p:cNvSpPr/>
              <p:nvPr/>
            </p:nvSpPr>
            <p:spPr>
              <a:xfrm rot="5400000">
                <a:off x="-72396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479" name="OA50" descr=""/>
              <p:cNvPicPr/>
              <p:nvPr/>
            </p:nvPicPr>
            <p:blipFill>
              <a:blip r:embed="rId3"/>
              <a:stretch/>
            </p:blipFill>
            <p:spPr>
              <a:xfrm>
                <a:off x="8287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0" name=""/>
            <p:cNvGrpSpPr/>
            <p:nvPr/>
          </p:nvGrpSpPr>
          <p:grpSpPr>
            <a:xfrm>
              <a:off x="76320" y="1994040"/>
              <a:ext cx="457200" cy="4176720"/>
              <a:chOff x="76320" y="1994040"/>
              <a:chExt cx="457200" cy="4176720"/>
            </a:xfrm>
          </p:grpSpPr>
          <p:sp>
            <p:nvSpPr>
              <p:cNvPr id="481" name=""/>
              <p:cNvSpPr/>
              <p:nvPr/>
            </p:nvSpPr>
            <p:spPr>
              <a:xfrm>
                <a:off x="7632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00080" y="2103840"/>
                <a:ext cx="401400" cy="338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harves te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3" name=""/>
          <p:cNvSpPr/>
          <p:nvPr/>
        </p:nvSpPr>
        <p:spPr>
          <a:xfrm>
            <a:off x="92880" y="922320"/>
            <a:ext cx="28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service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11480" y="9223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data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modes of running OAI 1.0 reposito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8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152280" y="685800"/>
            <a:ext cx="89154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mode 0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no registration of repository in the OAI 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modes of running OAI 1.0 reposito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3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152280" y="685800"/>
            <a:ext cx="891540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mode 1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registration of repository in public OAI registry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[includes validation of repli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2819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existence of the repository is vi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136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981080"/>
            <a:ext cx="9142560" cy="246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nl-BE" sz="3200" spc="-1" strike="noStrike">
                <a:solidFill>
                  <a:srgbClr val="000000"/>
                </a:solidFill>
                <a:latin typeface="Times New Roman"/>
              </a:rPr>
              <a:t>Open Archive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nl-BE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itiative has been set up to create a forum to discuss and solve matters of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operability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epri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lutions, as a way to promote their global acceptanc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ul Ginsparg, Rick Luce &amp; Herbert Van de Somp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OAI ori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modes of running OAI 1.0 reposito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9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152280" y="685800"/>
            <a:ext cx="89154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mode 2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registration of repository in public OAI 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usage of the OAI format for identifi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4572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resolver for OAI formated identif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4038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existence of the repository is vi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tools to support OAI implemen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6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152280" y="838080"/>
            <a:ext cx="891540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Hussein’s Repository explor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XSV Schema Valid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XML S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the OAI comformance tester [soon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communication re O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1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152280" y="838080"/>
            <a:ext cx="89154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lists: subscribe via http://www.openarchives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oai-general list [replaces UPS list; UPS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subscribers will be moved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oai-implementers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web: http://www.openarchives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FAQ: http://www.openarchives.org/faq.ht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mail: openarchives@openarchives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152280" y="1035000"/>
            <a:ext cx="8991720" cy="29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freeze specifications for 12 -18 month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ble for experimentation; not defin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ize risk for early adop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ximize chances for future interoperability across commun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revision of specifica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7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76320" y="1341360"/>
            <a:ext cx="899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e Open Archives Initiative develops and promotes interoperability standards that aim to facilitate the efficient</a:t>
            </a:r>
            <a:r>
              <a:rPr b="0" i="1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issemination of content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new OAI mission stat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2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52280" y="1341360"/>
            <a:ext cx="8991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e Open Archives Initiative has its roots in an effort to enhance access to e-print archives as a</a:t>
            </a:r>
            <a:r>
              <a:rPr b="0" i="1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eans of increasing the availability of scholarly communication. </a:t>
            </a:r>
            <a:r>
              <a:rPr b="0" i="1" lang="nl-BE" sz="3200" spc="-1" strike="noStrike">
                <a:solidFill>
                  <a:srgbClr val="ffffff"/>
                </a:solidFill>
                <a:latin typeface="Times New Roman"/>
              </a:rPr>
              <a:t>Continued support of this work remains a cornerstone of the Open Archives progr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new OAI mission stat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7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304920" y="1341360"/>
            <a:ext cx="8610480" cy="41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e fundamental technological framework and standards that are developing to support this work</a:t>
            </a:r>
            <a:r>
              <a:rPr b="0" i="1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re, however, independent of the both the type of content offered and the economic mechanisms surrounding that content, and</a:t>
            </a:r>
            <a:r>
              <a:rPr b="0" i="1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romise to have much broader relevance in opening up access to a range of digital material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imes New Roman"/>
              </a:rPr>
              <a:t>[...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new OAI mission stat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2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0A200" descr=""/>
          <p:cNvPicPr/>
          <p:nvPr/>
        </p:nvPicPr>
        <p:blipFill>
          <a:blip r:embed="rId1"/>
          <a:stretch/>
        </p:blipFill>
        <p:spPr>
          <a:xfrm>
            <a:off x="685800" y="2705040"/>
            <a:ext cx="1905120" cy="133344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3040920" y="2560680"/>
            <a:ext cx="55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http://www.openarchives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openarchives@openarchives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230640" y="1371600"/>
            <a:ext cx="2819160" cy="19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6" name="0A200" descr=""/>
          <p:cNvPicPr/>
          <p:nvPr/>
        </p:nvPicPr>
        <p:blipFill>
          <a:blip r:embed="rId1"/>
          <a:stretch/>
        </p:blipFill>
        <p:spPr>
          <a:xfrm>
            <a:off x="3687840" y="1695600"/>
            <a:ext cx="1904760" cy="13334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0" y="349200"/>
            <a:ext cx="9144000" cy="64260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Times New Roman"/>
              </a:rPr>
              <a:t>the oai-alpha t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8160" y="6248520"/>
            <a:ext cx="9067680" cy="45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OAI Open Me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Washington DC – January 23</a:t>
            </a:r>
            <a:r>
              <a:rPr b="0" lang="nl-BE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4038480"/>
            <a:ext cx="914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bert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de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mpel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&amp; Carl Lago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Cornel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University </a:t>
            </a: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Computer Sc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alpha test of specs [11/2000-01/2001]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3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228600" y="990720"/>
            <a:ext cx="8763120" cy="38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data provide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arXiv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Los Alamos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NACA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NA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CogPrints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U Southamp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ETD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Virginia Te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Thesis &amp; Dissertations from WorldCat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OCL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20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American Memory --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 Library of Cong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preprint solu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2280" y="1036800"/>
            <a:ext cx="89154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attractive building block in ongoing transformation of scholarly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interoperability could increase impact of prepri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amongst preprint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with building blocks that implement other functions of scholarly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with the established communication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228600" y="1200240"/>
            <a:ext cx="876312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data provide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HeinOnline law journals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Cornell U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TEI-lite collection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U Tenness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STM publisher metadata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U Illino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Resource Disovery Network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UKOL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Open Language Archives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U Pennsylva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Open Video Project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U Northern Carol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CI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alpha test of specs [11/2000-01/2001]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9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228600" y="1200240"/>
            <a:ext cx="876312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softwa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OAI harvesting interface to Ex Libris Aleph 500 Integrated Library System 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Ex Libr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Open-source software capable of creating a merged catalog of metadata harvested from OAI-servers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OCL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OAI 1.O compliant eprints.org software --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 U Southamp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alpha test of specs [11/2000-01/2001]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4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228600" y="1200240"/>
            <a:ext cx="876312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service provide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Repository explorer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Virginia Te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ARC service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Old Dominion 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alpha test of specs [11/2000-01/2001]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9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0A200" descr=""/>
          <p:cNvPicPr/>
          <p:nvPr/>
        </p:nvPicPr>
        <p:blipFill>
          <a:blip r:embed="rId1"/>
          <a:stretch/>
        </p:blipFill>
        <p:spPr>
          <a:xfrm>
            <a:off x="685800" y="2705040"/>
            <a:ext cx="1905120" cy="133344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3048120" y="2013120"/>
            <a:ext cx="5943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Credits: oai-alpha group for a truly incredibly good jo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Special thanks: Hussein Suleman, Michael Nelson, Simeon Warner for playing a distinct enabling ro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0A200" descr=""/>
          <p:cNvPicPr/>
          <p:nvPr/>
        </p:nvPicPr>
        <p:blipFill>
          <a:blip r:embed="rId1"/>
          <a:stretch/>
        </p:blipFill>
        <p:spPr>
          <a:xfrm>
            <a:off x="685800" y="2705040"/>
            <a:ext cx="1905120" cy="133344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3040920" y="2560680"/>
            <a:ext cx="55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http://www.openarchives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openarchives@openarchives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7238880" y="3387600"/>
            <a:ext cx="1752480" cy="901800"/>
            <a:chOff x="7238880" y="3387600"/>
            <a:chExt cx="1752480" cy="901800"/>
          </a:xfrm>
        </p:grpSpPr>
        <p:sp>
          <p:nvSpPr>
            <p:cNvPr id="58" name=""/>
            <p:cNvSpPr/>
            <p:nvPr/>
          </p:nvSpPr>
          <p:spPr>
            <a:xfrm>
              <a:off x="7238880" y="33876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28520" y="34113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e-print accessi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410080" y="5715000"/>
            <a:ext cx="1752480" cy="901800"/>
            <a:chOff x="5410080" y="5715000"/>
            <a:chExt cx="1752480" cy="901800"/>
          </a:xfrm>
        </p:grpSpPr>
        <p:sp>
          <p:nvSpPr>
            <p:cNvPr id="62" name=""/>
            <p:cNvSpPr/>
            <p:nvPr/>
          </p:nvSpPr>
          <p:spPr>
            <a:xfrm>
              <a:off x="5410080" y="57150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99720" y="57387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324480" y="2222640"/>
            <a:ext cx="1752480" cy="901440"/>
            <a:chOff x="6324480" y="2222640"/>
            <a:chExt cx="1752480" cy="901440"/>
          </a:xfrm>
        </p:grpSpPr>
        <p:sp>
          <p:nvSpPr>
            <p:cNvPr id="65" name=""/>
            <p:cNvSpPr/>
            <p:nvPr/>
          </p:nvSpPr>
          <p:spPr>
            <a:xfrm>
              <a:off x="6324480" y="2222640"/>
              <a:ext cx="1752480" cy="90144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414120" y="224604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6324480" y="4572000"/>
            <a:ext cx="1752480" cy="901800"/>
            <a:chOff x="6324480" y="4572000"/>
            <a:chExt cx="1752480" cy="901800"/>
          </a:xfrm>
        </p:grpSpPr>
        <p:sp>
          <p:nvSpPr>
            <p:cNvPr id="69" name=""/>
            <p:cNvSpPr/>
            <p:nvPr/>
          </p:nvSpPr>
          <p:spPr>
            <a:xfrm>
              <a:off x="6324480" y="45720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14120" y="45957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136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52280" y="3114720"/>
            <a:ext cx="1981440" cy="1447560"/>
            <a:chOff x="152280" y="3114720"/>
            <a:chExt cx="1981440" cy="1447560"/>
          </a:xfrm>
        </p:grpSpPr>
        <p:sp>
          <p:nvSpPr>
            <p:cNvPr id="73" name=""/>
            <p:cNvSpPr/>
            <p:nvPr/>
          </p:nvSpPr>
          <p:spPr>
            <a:xfrm>
              <a:off x="152280" y="3114720"/>
              <a:ext cx="1981440" cy="144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380880" y="3476520"/>
              <a:ext cx="1434960" cy="856800"/>
              <a:chOff x="380880" y="3476520"/>
              <a:chExt cx="1434960" cy="85680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1098360" y="3476520"/>
                <a:ext cx="495000" cy="355680"/>
                <a:chOff x="1098360" y="3476520"/>
                <a:chExt cx="495000" cy="355680"/>
              </a:xfrm>
            </p:grpSpPr>
            <p:sp>
              <p:nvSpPr>
                <p:cNvPr id="76" name=""/>
                <p:cNvSpPr/>
                <p:nvPr/>
              </p:nvSpPr>
              <p:spPr>
                <a:xfrm flipH="1">
                  <a:off x="1224720" y="3666960"/>
                  <a:ext cx="241560" cy="139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H="1">
                  <a:off x="1098000" y="3743280"/>
                  <a:ext cx="495000" cy="889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" name=""/>
                <p:cNvGrpSpPr/>
                <p:nvPr/>
              </p:nvGrpSpPr>
              <p:grpSpPr>
                <a:xfrm>
                  <a:off x="1186920" y="3476520"/>
                  <a:ext cx="317520" cy="241200"/>
                  <a:chOff x="1186920" y="3476520"/>
                  <a:chExt cx="317520" cy="241200"/>
                </a:xfrm>
              </p:grpSpPr>
              <p:sp>
                <p:nvSpPr>
                  <p:cNvPr id="79" name=""/>
                  <p:cNvSpPr/>
                  <p:nvPr/>
                </p:nvSpPr>
                <p:spPr>
                  <a:xfrm flipH="1">
                    <a:off x="1186920" y="3476520"/>
                    <a:ext cx="317520" cy="2412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 flipH="1">
                    <a:off x="1212120" y="3502080"/>
                    <a:ext cx="266760" cy="20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" name=""/>
                <p:cNvSpPr/>
                <p:nvPr/>
              </p:nvSpPr>
              <p:spPr>
                <a:xfrm>
                  <a:off x="1149480" y="3781440"/>
                  <a:ext cx="406440" cy="0"/>
                </a:xfrm>
                <a:prstGeom prst="line">
                  <a:avLst/>
                </a:prstGeom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149480" y="3806640"/>
                  <a:ext cx="406440" cy="0"/>
                </a:xfrm>
                <a:prstGeom prst="line">
                  <a:avLst/>
                </a:prstGeom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" name=""/>
              <p:cNvSpPr/>
              <p:nvPr/>
            </p:nvSpPr>
            <p:spPr>
              <a:xfrm>
                <a:off x="901440" y="3902040"/>
                <a:ext cx="91440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1066320" y="3914640"/>
                <a:ext cx="50760" cy="38124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flipV="1">
                <a:off x="1599840" y="3901680"/>
                <a:ext cx="50760" cy="43164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500760" y="3521160"/>
                <a:ext cx="101880" cy="101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87000" y="3654360"/>
                <a:ext cx="0" cy="59688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80880" y="4029120"/>
                <a:ext cx="304920" cy="1260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92280" y="4048200"/>
                <a:ext cx="50760" cy="22860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455400" y="3616200"/>
                <a:ext cx="102960" cy="344520"/>
              </a:xfrm>
              <a:custGeom>
                <a:avLst/>
                <a:gdLst/>
                <a:ahLst/>
                <a:rect l="l" t="t" r="r" b="b"/>
                <a:pathLst>
                  <a:path w="65" h="217">
                    <a:moveTo>
                      <a:pt x="0" y="0"/>
                    </a:moveTo>
                    <a:lnTo>
                      <a:pt x="64" y="104"/>
                    </a:lnTo>
                    <a:lnTo>
                      <a:pt x="64" y="216"/>
                    </a:lnTo>
                  </a:path>
                </a:pathLst>
              </a:custGeom>
              <a:noFill/>
              <a:ln cap="rnd"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44240" y="3971880"/>
                <a:ext cx="31752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48800" y="3997440"/>
                <a:ext cx="76320" cy="29196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799920" y="4251240"/>
                <a:ext cx="101520" cy="3816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480240" y="3743280"/>
                <a:ext cx="446040" cy="90360"/>
              </a:xfrm>
              <a:custGeom>
                <a:avLst/>
                <a:gdLst/>
                <a:ahLst/>
                <a:rect l="l" t="t" r="r" b="b"/>
                <a:pathLst>
                  <a:path w="281" h="57">
                    <a:moveTo>
                      <a:pt x="280" y="0"/>
                    </a:moveTo>
                    <a:lnTo>
                      <a:pt x="144" y="5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"/>
          <p:cNvSpPr/>
          <p:nvPr/>
        </p:nvSpPr>
        <p:spPr>
          <a:xfrm flipH="1">
            <a:off x="2819520" y="2286000"/>
            <a:ext cx="1218960" cy="160020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819520" y="2819520"/>
            <a:ext cx="1752480" cy="106668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819520" y="3886200"/>
            <a:ext cx="259056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2819520" y="3885840"/>
            <a:ext cx="1752480" cy="106668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2819520" y="3885840"/>
            <a:ext cx="1218960" cy="160020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410080" y="1092240"/>
            <a:ext cx="1752480" cy="901800"/>
            <a:chOff x="5410080" y="1092240"/>
            <a:chExt cx="1752480" cy="901800"/>
          </a:xfrm>
        </p:grpSpPr>
        <p:sp>
          <p:nvSpPr>
            <p:cNvPr id="101" name=""/>
            <p:cNvSpPr/>
            <p:nvPr/>
          </p:nvSpPr>
          <p:spPr>
            <a:xfrm>
              <a:off x="5410080" y="109224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99720" y="111600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3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029200" y="838080"/>
            <a:ext cx="3276720" cy="3581640"/>
          </a:xfrm>
          <a:prstGeom prst="rect">
            <a:avLst/>
          </a:prstGeom>
          <a:solidFill>
            <a:srgbClr val="ffffff"/>
          </a:solidFill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238880" y="3387600"/>
            <a:ext cx="1752480" cy="901800"/>
            <a:chOff x="7238880" y="3387600"/>
            <a:chExt cx="1752480" cy="901800"/>
          </a:xfrm>
        </p:grpSpPr>
        <p:sp>
          <p:nvSpPr>
            <p:cNvPr id="106" name=""/>
            <p:cNvSpPr/>
            <p:nvPr/>
          </p:nvSpPr>
          <p:spPr>
            <a:xfrm>
              <a:off x="7238880" y="33876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28520" y="34113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nl-BE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e-print accessi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410080" y="5715000"/>
            <a:ext cx="1752480" cy="901800"/>
            <a:chOff x="5410080" y="5715000"/>
            <a:chExt cx="1752480" cy="901800"/>
          </a:xfrm>
        </p:grpSpPr>
        <p:sp>
          <p:nvSpPr>
            <p:cNvPr id="110" name=""/>
            <p:cNvSpPr/>
            <p:nvPr/>
          </p:nvSpPr>
          <p:spPr>
            <a:xfrm>
              <a:off x="5410080" y="57150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99720" y="57387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nl-BE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324480" y="2222640"/>
            <a:ext cx="1752480" cy="901440"/>
            <a:chOff x="6324480" y="2222640"/>
            <a:chExt cx="1752480" cy="901440"/>
          </a:xfrm>
        </p:grpSpPr>
        <p:sp>
          <p:nvSpPr>
            <p:cNvPr id="113" name=""/>
            <p:cNvSpPr/>
            <p:nvPr/>
          </p:nvSpPr>
          <p:spPr>
            <a:xfrm>
              <a:off x="6324480" y="2222640"/>
              <a:ext cx="1752480" cy="90144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14120" y="224604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nl-BE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324480" y="4572000"/>
            <a:ext cx="1752480" cy="901800"/>
            <a:chOff x="6324480" y="4572000"/>
            <a:chExt cx="1752480" cy="901800"/>
          </a:xfrm>
        </p:grpSpPr>
        <p:sp>
          <p:nvSpPr>
            <p:cNvPr id="117" name=""/>
            <p:cNvSpPr/>
            <p:nvPr/>
          </p:nvSpPr>
          <p:spPr>
            <a:xfrm>
              <a:off x="6324480" y="45720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14120" y="45957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nl-BE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8136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52280" y="3114720"/>
            <a:ext cx="1981440" cy="1447560"/>
            <a:chOff x="152280" y="3114720"/>
            <a:chExt cx="1981440" cy="1447560"/>
          </a:xfrm>
        </p:grpSpPr>
        <p:sp>
          <p:nvSpPr>
            <p:cNvPr id="121" name=""/>
            <p:cNvSpPr/>
            <p:nvPr/>
          </p:nvSpPr>
          <p:spPr>
            <a:xfrm>
              <a:off x="152280" y="3114720"/>
              <a:ext cx="1981440" cy="144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380880" y="3476520"/>
              <a:ext cx="1434960" cy="856800"/>
              <a:chOff x="380880" y="3476520"/>
              <a:chExt cx="1434960" cy="85680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1098360" y="3476520"/>
                <a:ext cx="495000" cy="355680"/>
                <a:chOff x="1098360" y="3476520"/>
                <a:chExt cx="495000" cy="355680"/>
              </a:xfrm>
            </p:grpSpPr>
            <p:sp>
              <p:nvSpPr>
                <p:cNvPr id="124" name=""/>
                <p:cNvSpPr/>
                <p:nvPr/>
              </p:nvSpPr>
              <p:spPr>
                <a:xfrm flipH="1">
                  <a:off x="1224720" y="3666960"/>
                  <a:ext cx="241560" cy="139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H="1">
                  <a:off x="1098000" y="3743280"/>
                  <a:ext cx="495000" cy="889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6" name=""/>
                <p:cNvGrpSpPr/>
                <p:nvPr/>
              </p:nvGrpSpPr>
              <p:grpSpPr>
                <a:xfrm>
                  <a:off x="1186920" y="3476520"/>
                  <a:ext cx="317520" cy="241200"/>
                  <a:chOff x="1186920" y="3476520"/>
                  <a:chExt cx="317520" cy="24120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 flipH="1">
                    <a:off x="1186920" y="3476520"/>
                    <a:ext cx="317520" cy="2412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 flipH="1">
                    <a:off x="1212120" y="3502080"/>
                    <a:ext cx="266760" cy="20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9" name=""/>
                <p:cNvSpPr/>
                <p:nvPr/>
              </p:nvSpPr>
              <p:spPr>
                <a:xfrm>
                  <a:off x="1149480" y="3781440"/>
                  <a:ext cx="406440" cy="0"/>
                </a:xfrm>
                <a:prstGeom prst="line">
                  <a:avLst/>
                </a:prstGeom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149480" y="3806640"/>
                  <a:ext cx="406440" cy="0"/>
                </a:xfrm>
                <a:prstGeom prst="line">
                  <a:avLst/>
                </a:prstGeom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" name=""/>
              <p:cNvSpPr/>
              <p:nvPr/>
            </p:nvSpPr>
            <p:spPr>
              <a:xfrm>
                <a:off x="901440" y="3902040"/>
                <a:ext cx="91440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1066320" y="3914640"/>
                <a:ext cx="50760" cy="38124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1599840" y="3901680"/>
                <a:ext cx="50760" cy="43164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500760" y="3521160"/>
                <a:ext cx="101880" cy="101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87000" y="3654360"/>
                <a:ext cx="0" cy="59688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80880" y="4029120"/>
                <a:ext cx="304920" cy="1260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92280" y="4048200"/>
                <a:ext cx="50760" cy="22860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455400" y="3616200"/>
                <a:ext cx="102960" cy="344520"/>
              </a:xfrm>
              <a:custGeom>
                <a:avLst/>
                <a:gdLst/>
                <a:ahLst/>
                <a:rect l="l" t="t" r="r" b="b"/>
                <a:pathLst>
                  <a:path w="65" h="217">
                    <a:moveTo>
                      <a:pt x="0" y="0"/>
                    </a:moveTo>
                    <a:lnTo>
                      <a:pt x="64" y="104"/>
                    </a:lnTo>
                    <a:lnTo>
                      <a:pt x="64" y="216"/>
                    </a:lnTo>
                  </a:path>
                </a:pathLst>
              </a:custGeom>
              <a:noFill/>
              <a:ln cap="rnd"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4240" y="3971880"/>
                <a:ext cx="31752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48800" y="3997440"/>
                <a:ext cx="76320" cy="29196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799920" y="4251240"/>
                <a:ext cx="101520" cy="3816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480240" y="3743280"/>
                <a:ext cx="446040" cy="90360"/>
              </a:xfrm>
              <a:custGeom>
                <a:avLst/>
                <a:gdLst/>
                <a:ahLst/>
                <a:rect l="l" t="t" r="r" b="b"/>
                <a:pathLst>
                  <a:path w="281" h="57">
                    <a:moveTo>
                      <a:pt x="280" y="0"/>
                    </a:moveTo>
                    <a:lnTo>
                      <a:pt x="144" y="5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5410080" y="1092240"/>
            <a:ext cx="1752480" cy="901800"/>
            <a:chOff x="5410080" y="1092240"/>
            <a:chExt cx="1752480" cy="901800"/>
          </a:xfrm>
        </p:grpSpPr>
        <p:sp>
          <p:nvSpPr>
            <p:cNvPr id="144" name=""/>
            <p:cNvSpPr/>
            <p:nvPr/>
          </p:nvSpPr>
          <p:spPr>
            <a:xfrm>
              <a:off x="5410080" y="109224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99720" y="111600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2286000" y="2743200"/>
            <a:ext cx="2362320" cy="114300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preprint solu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52280" y="838080"/>
            <a:ext cx="8763120" cy="28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Santa Fe meeting: improve accessibility of prepr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by improving search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via the provision of an interoperability sp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Core concepts of Santa Fe conven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52280" y="914400"/>
            <a:ext cx="891540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low-barrier interoper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data-provider &amp; service-provider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metadata harvesting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shared metadata format and parallel, community-specific metadata form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acceptable 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16560" y="243828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Dienst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46800" y="4952880"/>
            <a:ext cx="10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O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38880" y="350532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XML re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30240" y="297180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HTTP b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9080" y="5562720"/>
            <a:ext cx="36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Gentelmen’s agre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metadata harves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36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52280" y="3114720"/>
            <a:ext cx="1981440" cy="1447560"/>
            <a:chOff x="152280" y="3114720"/>
            <a:chExt cx="1981440" cy="1447560"/>
          </a:xfrm>
        </p:grpSpPr>
        <p:sp>
          <p:nvSpPr>
            <p:cNvPr id="167" name=""/>
            <p:cNvSpPr/>
            <p:nvPr/>
          </p:nvSpPr>
          <p:spPr>
            <a:xfrm>
              <a:off x="152280" y="3114720"/>
              <a:ext cx="1981440" cy="144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380880" y="3476520"/>
              <a:ext cx="1434960" cy="856800"/>
              <a:chOff x="380880" y="3476520"/>
              <a:chExt cx="1434960" cy="85680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098360" y="3476520"/>
                <a:ext cx="495000" cy="355680"/>
                <a:chOff x="1098360" y="3476520"/>
                <a:chExt cx="495000" cy="355680"/>
              </a:xfrm>
            </p:grpSpPr>
            <p:sp>
              <p:nvSpPr>
                <p:cNvPr id="170" name=""/>
                <p:cNvSpPr/>
                <p:nvPr/>
              </p:nvSpPr>
              <p:spPr>
                <a:xfrm flipH="1">
                  <a:off x="1224720" y="3666960"/>
                  <a:ext cx="241560" cy="139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>
                  <a:off x="1098000" y="3743280"/>
                  <a:ext cx="495000" cy="889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2" name=""/>
                <p:cNvGrpSpPr/>
                <p:nvPr/>
              </p:nvGrpSpPr>
              <p:grpSpPr>
                <a:xfrm>
                  <a:off x="1186920" y="3476520"/>
                  <a:ext cx="317520" cy="241200"/>
                  <a:chOff x="1186920" y="3476520"/>
                  <a:chExt cx="317520" cy="24120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 flipH="1">
                    <a:off x="1186920" y="3476520"/>
                    <a:ext cx="317520" cy="2412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flipH="1">
                    <a:off x="1212120" y="3502080"/>
                    <a:ext cx="266760" cy="20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5" name=""/>
                <p:cNvSpPr/>
                <p:nvPr/>
              </p:nvSpPr>
              <p:spPr>
                <a:xfrm>
                  <a:off x="1149480" y="3781440"/>
                  <a:ext cx="406440" cy="0"/>
                </a:xfrm>
                <a:prstGeom prst="line">
                  <a:avLst/>
                </a:prstGeom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149480" y="3806640"/>
                  <a:ext cx="406440" cy="0"/>
                </a:xfrm>
                <a:prstGeom prst="line">
                  <a:avLst/>
                </a:prstGeom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" name=""/>
              <p:cNvSpPr/>
              <p:nvPr/>
            </p:nvSpPr>
            <p:spPr>
              <a:xfrm>
                <a:off x="901440" y="3902040"/>
                <a:ext cx="91440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1066320" y="3914640"/>
                <a:ext cx="50760" cy="38124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 flipV="1">
                <a:off x="1599840" y="3901680"/>
                <a:ext cx="50760" cy="43164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500760" y="3521160"/>
                <a:ext cx="101880" cy="101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87000" y="3654360"/>
                <a:ext cx="0" cy="59688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80880" y="4029120"/>
                <a:ext cx="304920" cy="1260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92280" y="4048200"/>
                <a:ext cx="50760" cy="22860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455400" y="3616200"/>
                <a:ext cx="102960" cy="344520"/>
              </a:xfrm>
              <a:custGeom>
                <a:avLst/>
                <a:gdLst/>
                <a:ahLst/>
                <a:rect l="l" t="t" r="r" b="b"/>
                <a:pathLst>
                  <a:path w="65" h="217">
                    <a:moveTo>
                      <a:pt x="0" y="0"/>
                    </a:moveTo>
                    <a:lnTo>
                      <a:pt x="64" y="104"/>
                    </a:lnTo>
                    <a:lnTo>
                      <a:pt x="64" y="216"/>
                    </a:lnTo>
                  </a:path>
                </a:pathLst>
              </a:custGeom>
              <a:noFill/>
              <a:ln cap="rnd"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44240" y="3971880"/>
                <a:ext cx="31752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48800" y="3997440"/>
                <a:ext cx="76320" cy="29196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799920" y="4251240"/>
                <a:ext cx="101520" cy="3816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480240" y="3743280"/>
                <a:ext cx="446040" cy="90360"/>
              </a:xfrm>
              <a:custGeom>
                <a:avLst/>
                <a:gdLst/>
                <a:ahLst/>
                <a:rect l="l" t="t" r="r" b="b"/>
                <a:pathLst>
                  <a:path w="281" h="57">
                    <a:moveTo>
                      <a:pt x="280" y="0"/>
                    </a:moveTo>
                    <a:lnTo>
                      <a:pt x="144" y="5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" name=""/>
          <p:cNvSpPr/>
          <p:nvPr/>
        </p:nvSpPr>
        <p:spPr>
          <a:xfrm>
            <a:off x="322200" y="1219320"/>
            <a:ext cx="17352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4876920" y="990720"/>
            <a:ext cx="2361960" cy="5714640"/>
            <a:chOff x="4876920" y="990720"/>
            <a:chExt cx="2361960" cy="5714640"/>
          </a:xfrm>
        </p:grpSpPr>
        <p:grpSp>
          <p:nvGrpSpPr>
            <p:cNvPr id="192" name=""/>
            <p:cNvGrpSpPr/>
            <p:nvPr/>
          </p:nvGrpSpPr>
          <p:grpSpPr>
            <a:xfrm>
              <a:off x="4876920" y="990720"/>
              <a:ext cx="533160" cy="1066680"/>
              <a:chOff x="4876920" y="990720"/>
              <a:chExt cx="533160" cy="1066680"/>
            </a:xfrm>
          </p:grpSpPr>
          <p:sp>
            <p:nvSpPr>
              <p:cNvPr id="193" name=""/>
              <p:cNvSpPr/>
              <p:nvPr/>
            </p:nvSpPr>
            <p:spPr>
              <a:xfrm>
                <a:off x="4876920" y="990720"/>
                <a:ext cx="53316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94" name="OA50" descr=""/>
              <p:cNvPicPr/>
              <p:nvPr/>
            </p:nvPicPr>
            <p:blipFill>
              <a:blip r:embed="rId2"/>
              <a:stretch/>
            </p:blipFill>
            <p:spPr>
              <a:xfrm>
                <a:off x="4905360" y="13572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5" name=""/>
            <p:cNvGrpSpPr/>
            <p:nvPr/>
          </p:nvGrpSpPr>
          <p:grpSpPr>
            <a:xfrm>
              <a:off x="5791320" y="2133720"/>
              <a:ext cx="533160" cy="1066680"/>
              <a:chOff x="5791320" y="2133720"/>
              <a:chExt cx="533160" cy="1066680"/>
            </a:xfrm>
          </p:grpSpPr>
          <p:sp>
            <p:nvSpPr>
              <p:cNvPr id="196" name=""/>
              <p:cNvSpPr/>
              <p:nvPr/>
            </p:nvSpPr>
            <p:spPr>
              <a:xfrm>
                <a:off x="5791320" y="2133720"/>
                <a:ext cx="53316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97" name="OA50" descr=""/>
              <p:cNvPicPr/>
              <p:nvPr/>
            </p:nvPicPr>
            <p:blipFill>
              <a:blip r:embed="rId3"/>
              <a:stretch/>
            </p:blipFill>
            <p:spPr>
              <a:xfrm>
                <a:off x="5819760" y="25002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8" name=""/>
            <p:cNvGrpSpPr/>
            <p:nvPr/>
          </p:nvGrpSpPr>
          <p:grpSpPr>
            <a:xfrm>
              <a:off x="6705720" y="3352680"/>
              <a:ext cx="533160" cy="1066680"/>
              <a:chOff x="6705720" y="3352680"/>
              <a:chExt cx="533160" cy="1066680"/>
            </a:xfrm>
          </p:grpSpPr>
          <p:sp>
            <p:nvSpPr>
              <p:cNvPr id="199" name=""/>
              <p:cNvSpPr/>
              <p:nvPr/>
            </p:nvSpPr>
            <p:spPr>
              <a:xfrm>
                <a:off x="6705720" y="3352680"/>
                <a:ext cx="53316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00" name="OA50" descr=""/>
              <p:cNvPicPr/>
              <p:nvPr/>
            </p:nvPicPr>
            <p:blipFill>
              <a:blip r:embed="rId4"/>
              <a:stretch/>
            </p:blipFill>
            <p:spPr>
              <a:xfrm>
                <a:off x="6734160" y="371916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1" name=""/>
            <p:cNvGrpSpPr/>
            <p:nvPr/>
          </p:nvGrpSpPr>
          <p:grpSpPr>
            <a:xfrm>
              <a:off x="5791320" y="4495680"/>
              <a:ext cx="533160" cy="1066680"/>
              <a:chOff x="5791320" y="4495680"/>
              <a:chExt cx="533160" cy="1066680"/>
            </a:xfrm>
          </p:grpSpPr>
          <p:sp>
            <p:nvSpPr>
              <p:cNvPr id="202" name=""/>
              <p:cNvSpPr/>
              <p:nvPr/>
            </p:nvSpPr>
            <p:spPr>
              <a:xfrm>
                <a:off x="5791320" y="4495680"/>
                <a:ext cx="53316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03" name="OA50" descr=""/>
              <p:cNvPicPr/>
              <p:nvPr/>
            </p:nvPicPr>
            <p:blipFill>
              <a:blip r:embed="rId5"/>
              <a:stretch/>
            </p:blipFill>
            <p:spPr>
              <a:xfrm>
                <a:off x="5819760" y="486216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4" name=""/>
            <p:cNvGrpSpPr/>
            <p:nvPr/>
          </p:nvGrpSpPr>
          <p:grpSpPr>
            <a:xfrm>
              <a:off x="4876920" y="5638680"/>
              <a:ext cx="533160" cy="1066680"/>
              <a:chOff x="4876920" y="5638680"/>
              <a:chExt cx="533160" cy="1066680"/>
            </a:xfrm>
          </p:grpSpPr>
          <p:sp>
            <p:nvSpPr>
              <p:cNvPr id="205" name=""/>
              <p:cNvSpPr/>
              <p:nvPr/>
            </p:nvSpPr>
            <p:spPr>
              <a:xfrm>
                <a:off x="4876920" y="5638680"/>
                <a:ext cx="53316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06" name="OA50" descr=""/>
              <p:cNvPicPr/>
              <p:nvPr/>
            </p:nvPicPr>
            <p:blipFill>
              <a:blip r:embed="rId6"/>
              <a:stretch/>
            </p:blipFill>
            <p:spPr>
              <a:xfrm>
                <a:off x="4905360" y="600516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07" name=""/>
          <p:cNvGrpSpPr/>
          <p:nvPr/>
        </p:nvGrpSpPr>
        <p:grpSpPr>
          <a:xfrm>
            <a:off x="2057400" y="990720"/>
            <a:ext cx="533160" cy="1066680"/>
            <a:chOff x="2057400" y="990720"/>
            <a:chExt cx="533160" cy="1066680"/>
          </a:xfrm>
        </p:grpSpPr>
        <p:sp>
          <p:nvSpPr>
            <p:cNvPr id="208" name=""/>
            <p:cNvSpPr/>
            <p:nvPr/>
          </p:nvSpPr>
          <p:spPr>
            <a:xfrm>
              <a:off x="2057400" y="990720"/>
              <a:ext cx="533160" cy="1066680"/>
            </a:xfrm>
            <a:prstGeom prst="rect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9" name="OA50" descr=""/>
            <p:cNvPicPr/>
            <p:nvPr/>
          </p:nvPicPr>
          <p:blipFill>
            <a:blip r:embed="rId7"/>
            <a:stretch/>
          </p:blipFill>
          <p:spPr>
            <a:xfrm>
              <a:off x="2085840" y="1357200"/>
              <a:ext cx="476280" cy="33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0" name=""/>
          <p:cNvGrpSpPr/>
          <p:nvPr/>
        </p:nvGrpSpPr>
        <p:grpSpPr>
          <a:xfrm>
            <a:off x="7238880" y="3387600"/>
            <a:ext cx="1752480" cy="901800"/>
            <a:chOff x="7238880" y="3387600"/>
            <a:chExt cx="1752480" cy="901800"/>
          </a:xfrm>
        </p:grpSpPr>
        <p:sp>
          <p:nvSpPr>
            <p:cNvPr id="211" name=""/>
            <p:cNvSpPr/>
            <p:nvPr/>
          </p:nvSpPr>
          <p:spPr>
            <a:xfrm>
              <a:off x="7238880" y="33876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328520" y="34113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10080" y="5715000"/>
            <a:ext cx="1752480" cy="901800"/>
            <a:chOff x="5410080" y="5715000"/>
            <a:chExt cx="1752480" cy="901800"/>
          </a:xfrm>
        </p:grpSpPr>
        <p:sp>
          <p:nvSpPr>
            <p:cNvPr id="214" name=""/>
            <p:cNvSpPr/>
            <p:nvPr/>
          </p:nvSpPr>
          <p:spPr>
            <a:xfrm>
              <a:off x="5410080" y="57150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99720" y="57387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324480" y="2222640"/>
            <a:ext cx="1752480" cy="901440"/>
            <a:chOff x="6324480" y="2222640"/>
            <a:chExt cx="1752480" cy="901440"/>
          </a:xfrm>
        </p:grpSpPr>
        <p:sp>
          <p:nvSpPr>
            <p:cNvPr id="217" name=""/>
            <p:cNvSpPr/>
            <p:nvPr/>
          </p:nvSpPr>
          <p:spPr>
            <a:xfrm>
              <a:off x="6324480" y="2222640"/>
              <a:ext cx="1752480" cy="90144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14120" y="2246040"/>
              <a:ext cx="154656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324480" y="4572000"/>
            <a:ext cx="1752480" cy="901800"/>
            <a:chOff x="6324480" y="4572000"/>
            <a:chExt cx="1752480" cy="901800"/>
          </a:xfrm>
        </p:grpSpPr>
        <p:sp>
          <p:nvSpPr>
            <p:cNvPr id="220" name=""/>
            <p:cNvSpPr/>
            <p:nvPr/>
          </p:nvSpPr>
          <p:spPr>
            <a:xfrm>
              <a:off x="6324480" y="45720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14120" y="45957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410080" y="1079640"/>
            <a:ext cx="1752480" cy="901440"/>
            <a:chOff x="5410080" y="1079640"/>
            <a:chExt cx="1752480" cy="901440"/>
          </a:xfrm>
        </p:grpSpPr>
        <p:sp>
          <p:nvSpPr>
            <p:cNvPr id="223" name=""/>
            <p:cNvSpPr/>
            <p:nvPr/>
          </p:nvSpPr>
          <p:spPr>
            <a:xfrm>
              <a:off x="5410080" y="1079640"/>
              <a:ext cx="1752480" cy="90144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99720" y="110304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819520" y="1523880"/>
            <a:ext cx="3581280" cy="4648320"/>
            <a:chOff x="2819520" y="1523880"/>
            <a:chExt cx="3581280" cy="4648320"/>
          </a:xfrm>
        </p:grpSpPr>
        <p:sp>
          <p:nvSpPr>
            <p:cNvPr id="226" name=""/>
            <p:cNvSpPr/>
            <p:nvPr/>
          </p:nvSpPr>
          <p:spPr>
            <a:xfrm>
              <a:off x="3733920" y="1523880"/>
              <a:ext cx="0" cy="4648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19520" y="1523880"/>
              <a:ext cx="182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733920" y="2666880"/>
              <a:ext cx="1676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33920" y="5029200"/>
              <a:ext cx="1676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33920" y="6172200"/>
              <a:ext cx="838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33920" y="3886200"/>
              <a:ext cx="2666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6401880" y="2286000"/>
            <a:ext cx="153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-pri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6324480" y="2222640"/>
            <a:ext cx="1752480" cy="901440"/>
            <a:chOff x="6324480" y="2222640"/>
            <a:chExt cx="1752480" cy="901440"/>
          </a:xfrm>
        </p:grpSpPr>
        <p:sp>
          <p:nvSpPr>
            <p:cNvPr id="234" name=""/>
            <p:cNvSpPr/>
            <p:nvPr/>
          </p:nvSpPr>
          <p:spPr>
            <a:xfrm>
              <a:off x="6324480" y="2222640"/>
              <a:ext cx="1752480" cy="90144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14120" y="2246040"/>
              <a:ext cx="154656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metadata harves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36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52280" y="3114720"/>
            <a:ext cx="1981440" cy="1447560"/>
            <a:chOff x="152280" y="3114720"/>
            <a:chExt cx="1981440" cy="1447560"/>
          </a:xfrm>
        </p:grpSpPr>
        <p:sp>
          <p:nvSpPr>
            <p:cNvPr id="240" name=""/>
            <p:cNvSpPr/>
            <p:nvPr/>
          </p:nvSpPr>
          <p:spPr>
            <a:xfrm>
              <a:off x="152280" y="3114720"/>
              <a:ext cx="1981440" cy="144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380880" y="3476520"/>
              <a:ext cx="1434960" cy="856800"/>
              <a:chOff x="380880" y="3476520"/>
              <a:chExt cx="1434960" cy="85680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1098360" y="3476520"/>
                <a:ext cx="495000" cy="355680"/>
                <a:chOff x="1098360" y="3476520"/>
                <a:chExt cx="495000" cy="355680"/>
              </a:xfrm>
            </p:grpSpPr>
            <p:sp>
              <p:nvSpPr>
                <p:cNvPr id="243" name=""/>
                <p:cNvSpPr/>
                <p:nvPr/>
              </p:nvSpPr>
              <p:spPr>
                <a:xfrm flipH="1">
                  <a:off x="1224720" y="3666960"/>
                  <a:ext cx="241560" cy="139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H="1">
                  <a:off x="1098000" y="3743280"/>
                  <a:ext cx="495000" cy="889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5" name=""/>
                <p:cNvGrpSpPr/>
                <p:nvPr/>
              </p:nvGrpSpPr>
              <p:grpSpPr>
                <a:xfrm>
                  <a:off x="1186920" y="3476520"/>
                  <a:ext cx="317520" cy="241200"/>
                  <a:chOff x="1186920" y="3476520"/>
                  <a:chExt cx="317520" cy="24120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 flipH="1">
                    <a:off x="1186920" y="3476520"/>
                    <a:ext cx="317520" cy="2412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H="1">
                    <a:off x="1212120" y="3502080"/>
                    <a:ext cx="266760" cy="20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8" name=""/>
                <p:cNvSpPr/>
                <p:nvPr/>
              </p:nvSpPr>
              <p:spPr>
                <a:xfrm>
                  <a:off x="1149480" y="3781440"/>
                  <a:ext cx="406440" cy="0"/>
                </a:xfrm>
                <a:prstGeom prst="line">
                  <a:avLst/>
                </a:prstGeom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149480" y="3806640"/>
                  <a:ext cx="406440" cy="0"/>
                </a:xfrm>
                <a:prstGeom prst="line">
                  <a:avLst/>
                </a:prstGeom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0" name=""/>
              <p:cNvSpPr/>
              <p:nvPr/>
            </p:nvSpPr>
            <p:spPr>
              <a:xfrm>
                <a:off x="901440" y="3902040"/>
                <a:ext cx="91440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1066320" y="3914640"/>
                <a:ext cx="50760" cy="38124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599840" y="3901680"/>
                <a:ext cx="50760" cy="43164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500760" y="3521160"/>
                <a:ext cx="101880" cy="101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87000" y="3654360"/>
                <a:ext cx="0" cy="59688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80880" y="4029120"/>
                <a:ext cx="304920" cy="1260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92280" y="4048200"/>
                <a:ext cx="50760" cy="22860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455400" y="3616200"/>
                <a:ext cx="102960" cy="344520"/>
              </a:xfrm>
              <a:custGeom>
                <a:avLst/>
                <a:gdLst/>
                <a:ahLst/>
                <a:rect l="l" t="t" r="r" b="b"/>
                <a:pathLst>
                  <a:path w="65" h="217">
                    <a:moveTo>
                      <a:pt x="0" y="0"/>
                    </a:moveTo>
                    <a:lnTo>
                      <a:pt x="64" y="104"/>
                    </a:lnTo>
                    <a:lnTo>
                      <a:pt x="64" y="216"/>
                    </a:lnTo>
                  </a:path>
                </a:pathLst>
              </a:custGeom>
              <a:noFill/>
              <a:ln cap="rnd"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44240" y="3971880"/>
                <a:ext cx="31752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48800" y="3997440"/>
                <a:ext cx="76320" cy="29196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799920" y="4251240"/>
                <a:ext cx="101520" cy="3816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480240" y="3743280"/>
                <a:ext cx="446040" cy="90360"/>
              </a:xfrm>
              <a:custGeom>
                <a:avLst/>
                <a:gdLst/>
                <a:ahLst/>
                <a:rect l="l" t="t" r="r" b="b"/>
                <a:pathLst>
                  <a:path w="281" h="57">
                    <a:moveTo>
                      <a:pt x="280" y="0"/>
                    </a:moveTo>
                    <a:lnTo>
                      <a:pt x="144" y="5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2" name=""/>
          <p:cNvSpPr/>
          <p:nvPr/>
        </p:nvSpPr>
        <p:spPr>
          <a:xfrm>
            <a:off x="322200" y="1219320"/>
            <a:ext cx="17352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grpSp>
        <p:nvGrpSpPr>
          <p:cNvPr id="264" name=""/>
          <p:cNvGrpSpPr/>
          <p:nvPr/>
        </p:nvGrpSpPr>
        <p:grpSpPr>
          <a:xfrm>
            <a:off x="914400" y="1980720"/>
            <a:ext cx="380880" cy="914760"/>
            <a:chOff x="914400" y="1980720"/>
            <a:chExt cx="380880" cy="914760"/>
          </a:xfrm>
        </p:grpSpPr>
        <p:sp>
          <p:nvSpPr>
            <p:cNvPr id="265" name=""/>
            <p:cNvSpPr/>
            <p:nvPr/>
          </p:nvSpPr>
          <p:spPr>
            <a:xfrm flipV="1">
              <a:off x="914400" y="1980720"/>
              <a:ext cx="0" cy="838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1295280" y="2057400"/>
              <a:ext cx="0" cy="8380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2286000" y="3400560"/>
            <a:ext cx="2057040" cy="946440"/>
            <a:chOff x="2286000" y="3400560"/>
            <a:chExt cx="2057040" cy="946440"/>
          </a:xfrm>
        </p:grpSpPr>
        <p:sp>
          <p:nvSpPr>
            <p:cNvPr id="268" name=""/>
            <p:cNvSpPr/>
            <p:nvPr/>
          </p:nvSpPr>
          <p:spPr>
            <a:xfrm>
              <a:off x="3202200" y="3400560"/>
              <a:ext cx="1140840" cy="946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Courier New"/>
                </a:rPr>
                <a:t>Auth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Courier New"/>
                </a:rPr>
                <a:t>Tit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Courier New"/>
                </a:rPr>
                <a:t>Abstra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Courier New"/>
                </a:rPr>
                <a:t>Identif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2286000" y="3838680"/>
              <a:ext cx="8380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 flipH="1">
            <a:off x="4419720" y="2819520"/>
            <a:ext cx="1752480" cy="106668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7238880" y="3387600"/>
            <a:ext cx="1752480" cy="901800"/>
            <a:chOff x="7238880" y="3387600"/>
            <a:chExt cx="1752480" cy="901800"/>
          </a:xfrm>
        </p:grpSpPr>
        <p:sp>
          <p:nvSpPr>
            <p:cNvPr id="272" name=""/>
            <p:cNvSpPr/>
            <p:nvPr/>
          </p:nvSpPr>
          <p:spPr>
            <a:xfrm>
              <a:off x="7238880" y="33876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328520" y="34113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410080" y="5715000"/>
            <a:ext cx="1752480" cy="901800"/>
            <a:chOff x="5410080" y="5715000"/>
            <a:chExt cx="1752480" cy="901800"/>
          </a:xfrm>
        </p:grpSpPr>
        <p:sp>
          <p:nvSpPr>
            <p:cNvPr id="275" name=""/>
            <p:cNvSpPr/>
            <p:nvPr/>
          </p:nvSpPr>
          <p:spPr>
            <a:xfrm>
              <a:off x="5410080" y="57150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99720" y="57387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324480" y="4572000"/>
            <a:ext cx="1752480" cy="901800"/>
            <a:chOff x="6324480" y="4572000"/>
            <a:chExt cx="1752480" cy="901800"/>
          </a:xfrm>
        </p:grpSpPr>
        <p:sp>
          <p:nvSpPr>
            <p:cNvPr id="278" name=""/>
            <p:cNvSpPr/>
            <p:nvPr/>
          </p:nvSpPr>
          <p:spPr>
            <a:xfrm>
              <a:off x="6324480" y="45720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14120" y="45957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410080" y="1079640"/>
            <a:ext cx="1752480" cy="901440"/>
            <a:chOff x="5410080" y="1079640"/>
            <a:chExt cx="1752480" cy="901440"/>
          </a:xfrm>
        </p:grpSpPr>
        <p:sp>
          <p:nvSpPr>
            <p:cNvPr id="281" name=""/>
            <p:cNvSpPr/>
            <p:nvPr/>
          </p:nvSpPr>
          <p:spPr>
            <a:xfrm>
              <a:off x="5410080" y="1079640"/>
              <a:ext cx="1752480" cy="90144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99720" y="110304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6401880" y="2286000"/>
            <a:ext cx="153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-pri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15:34:48Z</dcterms:created>
  <dc:creator>165868</dc:creator>
  <dc:description/>
  <dc:language>en-US</dc:language>
  <cp:lastModifiedBy>herbertv</cp:lastModifiedBy>
  <dcterms:modified xsi:type="dcterms:W3CDTF">2001-01-22T01:30:19Z</dcterms:modified>
  <cp:revision>456</cp:revision>
  <dc:subject/>
  <dc:title>No Slide Title</dc:title>
</cp:coreProperties>
</file>